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A58-765A-4945-AA75-61D19C3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28D-C3E0-448D-819A-89F63829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56D-465B-4BC6-8B4E-055B6B33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5D0-8C71-4716-AA83-9034752D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A5C-D9F9-41FA-9FC8-A1B0C238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8C2-73B7-4362-A33C-1C335C0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04C-0ED9-4E15-A83C-D85AAED5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724-20CA-494E-9271-E81B512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FB1-0191-4B17-8930-EF8BB24F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D99-E90F-4C33-AEED-F442892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395-EE7C-4ADC-AEEA-3E7B5FD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EC0-68A9-49D5-9294-5BD3727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2453-A0BB-4FC7-9C18-65118ABE2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656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12 The Spring Festi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762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.sweep out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扫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清除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uld you help me sweep out the du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.hang up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把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挂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 may hang up the map  on the black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7.on both sides of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两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ere are some trees on both sides of the 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8.make +n. +adj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使得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e tries to make his lesson lively and interesting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9. so tha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通常和情态动词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an ,could ,may ,migh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连用引导目的状语从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e got up early this morning so that we could catch up with the first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0.set off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使爆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areful with the firework ;the spark could set them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1.dress up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着装，打扮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show respect to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向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敬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e should respect to those who serve u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6 Language Study Useful Words and Expression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26888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omplete the following sentences by putting the Chinese in the brackets into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7.Summariz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 Summarize what they have learned in thi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o learn the new words and usefu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o understand  the text and learn some useful languag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 learn the traditional festival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8 Home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ge 87.  1 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2920" y="1413000"/>
            <a:ext cx="5805720" cy="29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ramm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状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语修饰动词、形容词、副词或整个句子。通常由副词、介词短语、动词不定式、分词和从句等担当。例如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 Naturally , our grandparents were pleased to get our phone call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副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  We worked hard , from sunrise to sunset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介词状短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  To help my disabled aunt , I spend an hour working in her house every day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定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   Seen from a distance , the farmhouse looked deserted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分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  I know how to light a camp fire because I had done it before 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原因状语从句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语的位置比较灵活，可以位于句首、句末或句中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oug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作状语修饰形容词和副词时必须后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状语从句主要用来修饰主句或主句的谓语。一般可分为九大类，分别表示时间、地点、原因、目的、结果、条件、让步、比较和方式。尽管种类较多，但由于状语从句与汉语结构和用法相似，所以理解和掌握它并不难。状语从句的关键是要掌握引导不同状语从句的常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连接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特殊的连接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考点。现分别列举如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5061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 时间状语从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en, as, while, as soon as, while, before, after, since , till, until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minute, the moment, the second, every time, the da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nstant, immediately , directly, no sooner … than, hardly …when, scarcely … when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didn’t realize how special my mother was until I became an adult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ile John was watching TV, his wife was cooking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hildren ran away from the orchard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果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the moment they saw the guard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 sooner had I arrived home than it began to rain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very time I listen to your advice, I get into troubl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 地点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ver, anywhere, everywhere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nerally, air will be heavily polluted where there are factories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ver you go, you should work hard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 原因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cause, since, as, since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eing that, now that, in that, considering that, given that, considering that,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y friends dislike me because I’m handsome and successful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w that everybody has come, let’s begin our conference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higher income tax is harmful in that it may discourage people from trying to earn more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idering that he is no more than 12 years old, his height of 1.80 m is quite remarkabl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99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6912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育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o improve the students’ speaking and reading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o make the students to learn the festivals in China and in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o learn the new words and usefu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To make the students get a general idea of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条件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, unless,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/so long as, only if, providing/provided that, suppose that, in case that, on condition that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’ll start our project if the president agrees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ou will certainly succeed so long as you keep on trying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d that there is no opposition, we shall hold the meeting her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1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7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 John shut everybody out of the kitchen ______he could prepare his grand surprise for the party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i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. whe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   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 so th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    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. as if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I would appreciate it ________you call back this afternoon for the doctor’s appointment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until                          B. if                              C. when                        D. that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As far as I am concern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ducation is about learning and the more you lear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_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the more for life are you equipped      B. the more equipped for life you ar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 the more life you are equipped for      D. you are equipped the more for life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681480"/>
            <a:ext cx="803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.After the wa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 new school building was put up ________there had once been a theatr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     B. where                       C. which                       D. whe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. —Is Mr. Sm ith in the office?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Yes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________ he is in charge of the offic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e must be ther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since                         B. however                    C. whether                    D. for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. As your good friend, I will do ________help you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 I can to         B. what I can to      C. all that I can             D. what I ca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7.John may phone tonight. I don’t want to go out ________he phones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as long as             B. in order to        C. in case               D. so that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8.Someone called me up in the middle of the nigh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ut they hung up ________I could answer the phon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as                      B. since            C. until                            D. befor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9. —Don’t look down upon Bob. He has his own advantages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Oh, yes. ________others are weak, he is strong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If                        B. When           C. Where                 D. Thoug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6400" y="1735920"/>
            <a:ext cx="789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0.It is ten years ________he smoked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 B. when            C. since                 D. whil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1.We must hurry up ________catch up with the last train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 B. so that to        C. in order that              D. in order to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No matter ________hard it may b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I will carry it out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what                   B. whatever        C. how                     D. however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3.________ you may d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 must do it well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Which                    B. Whenever        C. Whatever                 D. Whe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4. —Are you thinking about going to New York for the holiday?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No. But if I ________the tim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I would definitely go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have                        B. had           C. have had                   D. would hav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5.________ you are so weak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’d b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课堂时间有限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希望同学们课后多多练习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9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o make the students understand the fest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ow to make the students understand the text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are afraid of expressing themselves in English, so how to make them discuss in Englis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ep1 Greeting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 the whole class as us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2 Lead-in Warming 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ate of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pring festival/Thanksgiving Day/Christmas Day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 the first day of the lunar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the 25th of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the fourth Thursday of Nov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ep3 Learn the new words by reading then fill in the bl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 Ask the students to read the text quickly and put the sentences into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7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5 Explain the notes of the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The Spring Festival is coming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 comin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进行时，表示将来要发生的事。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e , g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rive , leav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可用进行时表将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 friend is leaving for Shangh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no matter how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how difficult the question is ,we have to answ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另外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什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e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哪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en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何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y to do 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量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设法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 try to help the old man to find his way home. 4.prepare fo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 are preparing for the English ex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7T06:37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